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E5C-D857-4A49-AC04-EF669778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910-0B20-4AB5-A451-178CD879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DDD-403C-4192-B764-EDEDBEF3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BE8-C1DE-4A9F-833F-FB61AA53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1FBB-9069-4BA0-81EF-0985F088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9C4-27DE-4451-9B3D-19EE6346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7689-6E60-4AA8-A720-EDBCC9D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9524-93F8-44AD-8980-6C9BE7A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8958-471D-48C0-B316-8F14DE81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4D0-F483-4505-BC7B-82F19AD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762-67F5-4E9F-A76E-C23F43D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586-0537-4A0D-982F-AED244F9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7CD-D86C-41A6-BF57-66DE1BD2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504C-66D4-4D0E-B5FA-1727D6B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9A74-B471-4E02-940E-87CE356A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4E0-1A6D-439D-A0EF-1926884F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4E43-39B9-4FC7-881E-3BE5C368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73B-EF24-4A97-95B7-CF5E70C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E9E-7E6B-4B6F-8506-615AAF6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C79-6E97-41C9-8382-C12CFE9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FB9-F73D-4FE8-AA9F-E74C7B2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635-2206-4897-8ED6-D0CA711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872-B1FE-4AC0-A745-5DEC726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7D3-5B3D-4A45-B95C-1BC27CA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D9E-4433-4A9A-A19D-53C7CD0A45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5B6-FD75-4E04-A9C3-D7A9FEF27A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ance3.f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inemademinuit.france3.fr/" TargetMode="External"/><Relationship Id="rId2" Type="http://schemas.openxmlformats.org/officeDocument/2006/relationships/hyperlink" Target="http://cinemademinuit.france3.fr/" TargetMode="External"/><Relationship Id="rId3" Type="http://schemas.openxmlformats.org/officeDocument/2006/relationships/hyperlink" Target="http://cinemademinuit.france3.fr/" TargetMode="External"/><Relationship Id="rId4" Type="http://schemas.openxmlformats.org/officeDocument/2006/relationships/hyperlink" Target="http://programmes.france3.fr/city-homicide" TargetMode="External"/><Relationship Id="rId5" Type="http://schemas.openxmlformats.org/officeDocument/2006/relationships/hyperlink" Target="http://lacrim.france2.fr/" TargetMode="External"/><Relationship Id="rId6" Type="http://schemas.openxmlformats.org/officeDocument/2006/relationships/hyperlink" Target="http://lacrim.france2.fr/" TargetMode="External"/><Relationship Id="rId7" Type="http://schemas.openxmlformats.org/officeDocument/2006/relationships/hyperlink" Target="http://lacrim.france2.fr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francetv.fr/deshommesenvrai/" TargetMode="External"/><Relationship Id="rId2" Type="http://schemas.openxmlformats.org/officeDocument/2006/relationships/hyperlink" Target="http://blog.francetv.fr/deshommesenvrai/" TargetMode="External"/><Relationship Id="rId3" Type="http://schemas.openxmlformats.org/officeDocument/2006/relationships/hyperlink" Target="http://blog.francetv.fr/deshommesenvrai/" TargetMode="External"/><Relationship Id="rId4" Type="http://schemas.openxmlformats.org/officeDocument/2006/relationships/hyperlink" Target="http://blog.francetv.fr/deshommesenvrai/" TargetMode="External"/><Relationship Id="rId5" Type="http://schemas.openxmlformats.org/officeDocument/2006/relationships/hyperlink" Target="http://blog.francetv.fr/deshommesenvrai/" TargetMode="External"/><Relationship Id="rId6" Type="http://schemas.openxmlformats.org/officeDocument/2006/relationships/hyperlink" Target="http://blog.francetv.fr/deshommesenvrai/" TargetMode="External"/><Relationship Id="rId7" Type="http://schemas.openxmlformats.org/officeDocument/2006/relationships/hyperlink" Target="http://blog.francetv.fr/deshommesenvrai/" TargetMode="External"/><Relationship Id="rId8" Type="http://schemas.openxmlformats.org/officeDocument/2006/relationships/hyperlink" Target="http://blog.francetv.fr/deshommesenvrai/" TargetMode="External"/><Relationship Id="rId9" Type="http://schemas.openxmlformats.org/officeDocument/2006/relationships/hyperlink" Target="http://blog.francetv.fr/deshommesenvrai/" TargetMode="External"/><Relationship Id="rId10" Type="http://schemas.openxmlformats.org/officeDocument/2006/relationships/hyperlink" Target="http://blog.francetv.fr/deshommesenvrai/" TargetMode="External"/><Relationship Id="rId11" Type="http://schemas.openxmlformats.org/officeDocument/2006/relationships/hyperlink" Target="http://blog.francetv.fr/deshommesenvrai/" TargetMode="External"/><Relationship Id="rId12" Type="http://schemas.openxmlformats.org/officeDocument/2006/relationships/hyperlink" Target="http://blog.francetv.fr/deshommesenvrai/" TargetMode="External"/><Relationship Id="rId13" Type="http://schemas.openxmlformats.org/officeDocument/2006/relationships/hyperlink" Target="http://blog.francetv.fr/deshommesenvrai/" TargetMode="External"/><Relationship Id="rId14" Type="http://schemas.openxmlformats.org/officeDocument/2006/relationships/hyperlink" Target="http://blog.francetv.fr/deshommesenvrai/" TargetMode="External"/><Relationship Id="rId15" Type="http://schemas.openxmlformats.org/officeDocument/2006/relationships/hyperlink" Target="http://blog.francetv.fr/deshommesenvrai/" TargetMode="External"/><Relationship Id="rId16" Type="http://schemas.openxmlformats.org/officeDocument/2006/relationships/hyperlink" Target="http://blog.francetv.fr/deshommesenvrai/" TargetMode="External"/><Relationship Id="rId17" Type="http://schemas.openxmlformats.org/officeDocument/2006/relationships/hyperlink" Target="http://blog.francetv.fr/deshommesenvrai/" TargetMode="External"/><Relationship Id="rId18" Type="http://schemas.openxmlformats.org/officeDocument/2006/relationships/hyperlink" Target="http://blog.francetv.fr/deshommesenvrai/" TargetMode="External"/><Relationship Id="rId19" Type="http://schemas.openxmlformats.org/officeDocument/2006/relationships/hyperlink" Target="http://blog.francetv.fr/deshommesenvrai/" TargetMode="External"/><Relationship Id="rId20" Type="http://schemas.openxmlformats.org/officeDocument/2006/relationships/hyperlink" Target="http://blog.francetv.fr/deshommesenvrai/" TargetMode="External"/><Relationship Id="rId21" Type="http://schemas.openxmlformats.org/officeDocument/2006/relationships/hyperlink" Target="http://blog.francetv.fr/deshommesenvrai/" TargetMode="External"/><Relationship Id="rId22" Type="http://schemas.openxmlformats.org/officeDocument/2006/relationships/hyperlink" Target="http://blog.francetv.fr/deshommesenvrai/" TargetMode="External"/><Relationship Id="rId23" Type="http://schemas.openxmlformats.org/officeDocument/2006/relationships/hyperlink" Target="http://blog.francetv.fr/deshommesenvrai/" TargetMode="External"/><Relationship Id="rId24" Type="http://schemas.openxmlformats.org/officeDocument/2006/relationships/hyperlink" Target="http://blog.francetv.fr/deshommesenvrai/" TargetMode="External"/><Relationship Id="rId25" Type="http://schemas.openxmlformats.org/officeDocument/2006/relationships/hyperlink" Target="http://blog.francetv.fr/deshommesenvrai/" TargetMode="External"/><Relationship Id="rId26" Type="http://schemas.openxmlformats.org/officeDocument/2006/relationships/hyperlink" Target="http://blog.francetv.fr/deshommesenvrai/" TargetMode="External"/><Relationship Id="rId27" Type="http://schemas.openxmlformats.org/officeDocument/2006/relationships/hyperlink" Target="http://blog.francetv.fr/deshommesenvrai/" TargetMode="External"/><Relationship Id="rId28" Type="http://schemas.openxmlformats.org/officeDocument/2006/relationships/hyperlink" Target="http://blog.francetv.fr/deshommesenvrai/" TargetMode="External"/><Relationship Id="rId29" Type="http://schemas.openxmlformats.org/officeDocument/2006/relationships/hyperlink" Target="http://blog.francetv.fr/deshommesenvrai/" TargetMode="External"/><Relationship Id="rId30" Type="http://schemas.openxmlformats.org/officeDocument/2006/relationships/hyperlink" Target="http://blog.francetv.fr/deshommesenvrai/" TargetMode="External"/><Relationship Id="rId31" Type="http://schemas.openxmlformats.org/officeDocument/2006/relationships/hyperlink" Target="http://blog.francetv.fr/deshommesenvrai/" TargetMode="External"/><Relationship Id="rId32" Type="http://schemas.openxmlformats.org/officeDocument/2006/relationships/hyperlink" Target="http://blog.francetv.fr/deshommesenvrai/" TargetMode="External"/><Relationship Id="rId33" Type="http://schemas.openxmlformats.org/officeDocument/2006/relationships/hyperlink" Target="http://blog.francetv.fr/deshommesenvrai/" TargetMode="External"/><Relationship Id="rId34" Type="http://schemas.openxmlformats.org/officeDocument/2006/relationships/hyperlink" Target="http://blog.francetv.fr/deshommesenvrai/" TargetMode="External"/><Relationship Id="rId35" Type="http://schemas.openxmlformats.org/officeDocument/2006/relationships/hyperlink" Target="http://blog.francetv.fr/deshommesenvrai/" TargetMode="External"/><Relationship Id="rId36" Type="http://schemas.openxmlformats.org/officeDocument/2006/relationships/hyperlink" Target="http://blog.francetv.fr/deshommesenvrai/" TargetMode="External"/><Relationship Id="rId37" Type="http://schemas.openxmlformats.org/officeDocument/2006/relationships/hyperlink" Target="http://blog.francetv.fr/deshommesenvrai/" TargetMode="External"/><Relationship Id="rId38" Type="http://schemas.openxmlformats.org/officeDocument/2006/relationships/hyperlink" Target="http://blog.francetv.fr/deshommesenvrai/" TargetMode="External"/><Relationship Id="rId39" Type="http://schemas.openxmlformats.org/officeDocument/2006/relationships/hyperlink" Target="http://blog.francetv.fr/deshommesenvrai/" TargetMode="External"/><Relationship Id="rId40" Type="http://schemas.openxmlformats.org/officeDocument/2006/relationships/hyperlink" Target="http://blog.francetv.fr/deshommesenvrai/" TargetMode="External"/><Relationship Id="rId41" Type="http://schemas.openxmlformats.org/officeDocument/2006/relationships/hyperlink" Target="http://blog.francetv.fr/deshommesenvrai/" TargetMode="External"/><Relationship Id="rId42" Type="http://schemas.openxmlformats.org/officeDocument/2006/relationships/hyperlink" Target="http://blog.francetv.fr/deshommesenvrai/" TargetMode="External"/><Relationship Id="rId43" Type="http://schemas.openxmlformats.org/officeDocument/2006/relationships/hyperlink" Target="http://blog.francetv.fr/deshommesenvrai/" TargetMode="External"/><Relationship Id="rId44" Type="http://schemas.openxmlformats.org/officeDocument/2006/relationships/hyperlink" Target="http://blog.francetv.fr/deshommesenvrai/" TargetMode="External"/><Relationship Id="rId45" Type="http://schemas.openxmlformats.org/officeDocument/2006/relationships/hyperlink" Target="http://blog.francetv.fr/deshommesenvrai/" TargetMode="External"/><Relationship Id="rId46" Type="http://schemas.openxmlformats.org/officeDocument/2006/relationships/hyperlink" Target="http://blog.francetv.fr/deshommesenvrai/" TargetMode="External"/><Relationship Id="rId47" Type="http://schemas.openxmlformats.org/officeDocument/2006/relationships/hyperlink" Target="http://blog.francetv.fr/deshommesenvrai/" TargetMode="External"/><Relationship Id="rId48" Type="http://schemas.openxmlformats.org/officeDocument/2006/relationships/hyperlink" Target="http://blog.francetv.fr/deshommesenvrai/" TargetMode="External"/><Relationship Id="rId49" Type="http://schemas.openxmlformats.org/officeDocument/2006/relationships/hyperlink" Target="http://blog.francetv.fr/deshommesenvrai/" TargetMode="External"/><Relationship Id="rId50" Type="http://schemas.openxmlformats.org/officeDocument/2006/relationships/hyperlink" Target="http://blog.francetv.fr/deshommesenvrai/" TargetMode="External"/><Relationship Id="rId51" Type="http://schemas.openxmlformats.org/officeDocument/2006/relationships/hyperlink" Target="http://blog.francetv.fr/deshommesenvrai/" TargetMode="External"/><Relationship Id="rId52" Type="http://schemas.openxmlformats.org/officeDocument/2006/relationships/image" Target="../media/image8.png"/><Relationship Id="rId5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s 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isions en Fra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ance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724280"/>
            <a:ext cx="38098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indefinite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629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ammes du can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umentai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59508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 magasines 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4 vérit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À vous de ju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ate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D’aujourd’hu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’art D’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POL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09480"/>
            <a:ext cx="1981080" cy="53352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3429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ous ofrre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6160" y="2514240"/>
            <a:ext cx="404028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information en temps ré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issions culturelles intéressan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Logo : Franc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80880"/>
            <a:ext cx="1600200" cy="544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42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4238640" cy="17528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s séries/fiction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inéma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d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minu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ity Homic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Crim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'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amille Serran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le d'accue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quêtes réservé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enquêtes de Murdo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9000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4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40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4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4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Arial"/>
              </a:rPr>
              <a:t>La Crim`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327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43828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7120" y="2514600"/>
            <a:ext cx="2419200" cy="32767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De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ommes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en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vrai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_x000b_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E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en couple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fil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,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ê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pè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... François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Chilowic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 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film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sa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rencontr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 avec 6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homm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 qui, à un momen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donn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 d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leur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 vies, s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sont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interrogé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s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 la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difficulté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 d’être un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omme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9"/>
              </a:rPr>
              <a:t>.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0"/>
              </a:rPr>
              <a:t>Consul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1"/>
              </a:rPr>
              <a:t> l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2"/>
              </a:rPr>
              <a:t>blog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3"/>
              </a:rPr>
              <a:t> du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4"/>
              </a:rPr>
              <a:t>réalisateur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5"/>
              </a:rPr>
              <a:t> et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6"/>
              </a:rPr>
              <a:t>ajoutez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7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8"/>
              </a:rPr>
              <a:t>vo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9"/>
              </a:rPr>
              <a:t>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0"/>
              </a:rPr>
              <a:t>commentaires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51"/>
              </a:rPr>
              <a:t> ! _x000b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2"/>
          <a:stretch/>
        </p:blipFill>
        <p:spPr>
          <a:xfrm>
            <a:off x="1219320" y="1371600"/>
            <a:ext cx="6553080" cy="2779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La u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149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1143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NYPD Blu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449568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441864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 u="sng">
                <a:solidFill>
                  <a:srgbClr val="ffffff"/>
                </a:solidFill>
                <a:uFillTx/>
                <a:latin typeface="Verdana"/>
              </a:rPr>
              <a:t>NYPD Blu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a vie d’un commissari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du 15e district de New York au pri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avec d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histoires de meurtres, vols, trafics de drogu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racisme.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ecff"/>
                </a:solidFill>
                <a:uFillTx/>
                <a:latin typeface="Comic Sans MS"/>
              </a:rPr>
              <a:t>BATMA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odèle pour les jeu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4343400"/>
            <a:ext cx="586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MAN-un classique immor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s enfants et des jeunes ,,BATMAN’’ est  un moyen de developper l’imagination des enfants et d’apprendre le frança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1T18:38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